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ED4-7F51-40F0-98CE-82E71404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D1D6-081C-443F-AD9D-CB321B9BC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8F2-2EE9-4866-ABA7-9EC25A772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6C9-3FE3-473F-B36B-F11F6D73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0994-69BF-4164-80AE-EABCF068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284A-FC50-482A-80CD-A73EF23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47E5-0397-4084-9986-3184414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5E94-B587-4113-B58C-376AE755D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13BB-D971-4A4C-9920-218599BF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2830-AD2A-4154-A37D-7E3DB762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F489-9360-4041-88C2-72470D2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819D-57D9-462E-832C-8E77506C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AED-5E2C-45D8-9ACD-6C3C7B8B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45A9C-1521-4648-8CB0-5E65A230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4353-9200-48E2-A6F4-8FFE5634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64F0-69CC-4B65-9F66-51F4C60A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613A-F6F7-46EC-8CD3-D5D70893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9BD70-7EC3-4522-A811-0573F0E6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CDBF7-9BB7-4A10-890E-A37F0F2D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89B98-50AB-48C6-8A61-3E0B1D2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6781A-EF5E-4348-9742-0251BC0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A19A6-9C5F-466B-9565-C771EE23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C54D-B1F1-4C4E-9CDC-D051256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429C0-A61F-4E42-AE39-24D206F1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E2219-FDF8-48DF-8DF7-EE4C9DB7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F9D3-7475-43F8-BC39-8E2A6DC9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52F2-79FC-4148-A397-00F6AB31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F7F27-EE46-4042-A39C-1C0B50F4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F430-EEC7-4941-9225-80E00231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66AF1-1228-4E36-8C31-4B187B940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0780E-FCDA-42C4-B979-759FDA13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5E3CC-59A7-4038-AE80-8564708D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0BE8A-A9C7-48D7-8273-AB4C73F6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C9D-2547-48A6-BA09-0F5E4AABF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D116-9EBE-4B23-B23E-C6A2A45A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35BB0-E3F8-4703-AD01-91C76FEA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B266B-8F9C-4BCA-AFB0-5D8F8BE8E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4812-799E-4423-A206-1238A2B3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5CF0-7B6D-4B17-8F64-259A575E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320E3-DC6B-4A77-A91F-D9BC3AFC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179A6-5812-4215-8E00-1C9FF208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C5240-FEB4-43BD-9786-17C39F415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71AC0-6380-4FCD-B340-8E7DF5D0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D5BF3-78E7-4830-AE44-03770F7C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858B-07C3-4EE0-BCD8-47692B4A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AA45E-61AC-40A9-887E-7FB9C4D9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56958-6478-4F88-93B0-34BDA01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7D680-CCA2-4B37-9282-D2BCF875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9B13E-287A-4A43-B118-D1158741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C30FE-818E-4812-AAB4-FDEBBE2B3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52B9E-4982-4B16-8BC0-C80266DB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341E0-B47D-4ABA-8DB1-CFBCF30C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9C5F3-0E51-4025-A7C9-447BE5FB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D034F-BC25-490F-A6BF-8834512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91297-F9AD-480F-9DBD-2BCC7248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66B-554F-4DAC-AC74-FE0C96978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BD597-D64D-4456-AEA0-ECF2C7F25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EAC7-9B61-473B-B6D4-34F4CC2E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252-AB16-4BD8-A1D0-A71DC0C9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43DE-60F0-4C6F-A0E6-ECE5E4A09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FF8E-9E1D-4870-9EDE-1E5001D0FF1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B867-9478-49BB-999D-8950B8BC64A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86FB-51FD-488A-8E71-9BDD4AB56CC6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E088-74A9-44B5-893B-8DAE2C6407F9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5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2bde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52bde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2da2b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080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080e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4d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3b4b8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3b4b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6F57-A9C9-41F7-906D-1E2D08D495E7}" type="slidenum">
              <a:rPr b="0" lang="ru-RU" sz="1000" spc="-1" strike="noStrike">
                <a:solidFill>
                  <a:srgbClr val="a3b4b8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5"/>
          <p:cNvSpPr/>
          <p:nvPr/>
        </p:nvSpPr>
        <p:spPr>
          <a:xfrm>
            <a:off x="1258920" y="476280"/>
            <a:ext cx="6697800" cy="6192720"/>
          </a:xfrm>
          <a:custGeom>
            <a:avLst/>
            <a:gdLst>
              <a:gd name="textAreaLeft" fmla="*/ 1528920 w 6697800"/>
              <a:gd name="textAreaRight" fmla="*/ 5168880 w 6697800"/>
              <a:gd name="textAreaTop" fmla="*/ 1413720 h 6192720"/>
              <a:gd name="textAreaBottom" fmla="*/ 4779000 h 619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def5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357120" y="2708280"/>
            <a:ext cx="878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фровой диктант</a:t>
            </a:r>
            <a:r>
              <a:rPr b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3348000" y="37162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а – (+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т- (-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785880" y="1143000"/>
            <a:ext cx="7643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не входит в основ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ова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из двух корне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7786800" y="571680"/>
            <a:ext cx="78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изменить значение слова на противоположно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может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большо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редмет превратить в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маленьк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несколько суффиксов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может быть </a:t>
            </a:r>
            <a:r>
              <a:rPr b="0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только одна  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слова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а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имний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являются однокоренными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в слове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ололёд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два корня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7643880" y="57168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ерно ли, что в приставка на –з и (-с)  перед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звонкими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гласными пишется 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,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а перед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глухими – З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37000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3327480" y="532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826920" y="981000"/>
            <a:ext cx="777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ерно ли, что слова белый, белая, белое, белые –  являются </a:t>
            </a:r>
            <a:r>
              <a:rPr b="0" lang="ru-RU" sz="4800" spc="-1" strike="noStrike">
                <a:solidFill>
                  <a:srgbClr val="da1f28"/>
                </a:solidFill>
                <a:latin typeface="Arial"/>
              </a:rPr>
              <a:t>однокоренными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298360" y="496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042920" y="1268280"/>
            <a:ext cx="777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Девиз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«Если правило ты знаеш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з запинки отвечаешь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YQTAR7CAHT7S23CA9K1OVBCA0FN4O2CA90I43JCAA3S870CA57NV95CATPEYGCCAJ0RSZ3CAHMUH3CCAS7YTKHCAD3MKK1CAI53JBECAU6HDVNCABYZJ9QCASXJXMUCAHFJG7DCAWDQ70RCA70BFI3CA6PS10R"/>
          <p:cNvPicPr/>
          <p:nvPr/>
        </p:nvPicPr>
        <p:blipFill>
          <a:blip r:embed="rId1"/>
          <a:stretch/>
        </p:blipFill>
        <p:spPr>
          <a:xfrm>
            <a:off x="5940360" y="4005360"/>
            <a:ext cx="251928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55640" y="10526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ерно ли, что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согласны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в приставках, кроме приставок на -з ( с) и приставок  пре- и при- , пишутся   </a:t>
            </a: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одинаков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независимо от произношения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8370000" y="5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4"/>
          <p:cNvSpPr/>
          <p:nvPr/>
        </p:nvSpPr>
        <p:spPr>
          <a:xfrm>
            <a:off x="8226720" y="4237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39640" y="712800"/>
            <a:ext cx="676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но ли , что в корне слова после шипящих под ударени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всегда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пишется    </a:t>
            </a:r>
            <a:r>
              <a:rPr b="1" lang="ru-RU" sz="4000" spc="-1" strike="noStrike">
                <a:solidFill>
                  <a:srgbClr val="da1f28"/>
                </a:solidFill>
                <a:latin typeface="Arial"/>
              </a:rPr>
              <a:t>О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"/>
          <p:cNvSpPr/>
          <p:nvPr/>
        </p:nvSpPr>
        <p:spPr>
          <a:xfrm>
            <a:off x="684360" y="134136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ерно ли, что буква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после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ц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шется в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корня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л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в словах </a:t>
            </a:r>
            <a:r>
              <a:rPr b="0" lang="ru-RU" sz="4000" spc="-1" strike="noStrike">
                <a:solidFill>
                  <a:srgbClr val="da1f28"/>
                </a:solidFill>
                <a:latin typeface="Arial"/>
              </a:rPr>
              <a:t>на –ци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8298360" y="42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5" descr="ca478fc61bab81f033cd9834f430ec50"/>
          <p:cNvPicPr/>
          <p:nvPr/>
        </p:nvPicPr>
        <p:blipFill>
          <a:blip r:embed="rId1"/>
          <a:stretch/>
        </p:blipFill>
        <p:spPr>
          <a:xfrm>
            <a:off x="6300720" y="4149720"/>
            <a:ext cx="2460600" cy="22446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6"/>
          <p:cNvSpPr/>
          <p:nvPr/>
        </p:nvSpPr>
        <p:spPr>
          <a:xfrm>
            <a:off x="1763640" y="639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1f28"/>
                </a:solidFill>
                <a:latin typeface="Arial"/>
              </a:rPr>
              <a:t>Проверя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395280" y="1484280"/>
            <a:ext cx="8518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-; 2 + ;3+; 4 -; 5 +; 6+; 7 -; 8 +; 9+; 10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1+; 12+; 13-; 14+; 15+; 16-; 17- ; 18+;19 – ;20 +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Рисунок16"/>
          <p:cNvPicPr/>
          <p:nvPr/>
        </p:nvPicPr>
        <p:blipFill>
          <a:blip r:embed="rId1"/>
          <a:stretch/>
        </p:blipFill>
        <p:spPr>
          <a:xfrm>
            <a:off x="0" y="-171360"/>
            <a:ext cx="3311640" cy="41050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2843280" y="620640"/>
            <a:ext cx="56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КРИТЕРИИ ОЦ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324000" y="393480"/>
            <a:ext cx="727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 и мен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1-14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-15  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 - 20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2222"/>
          <p:cNvPicPr/>
          <p:nvPr/>
        </p:nvPicPr>
        <p:blipFill>
          <a:blip r:embed="rId2"/>
          <a:stretch/>
        </p:blipFill>
        <p:spPr>
          <a:xfrm>
            <a:off x="6732720" y="155736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3333"/>
          <p:cNvPicPr/>
          <p:nvPr/>
        </p:nvPicPr>
        <p:blipFill>
          <a:blip r:embed="rId3"/>
          <a:stretch/>
        </p:blipFill>
        <p:spPr>
          <a:xfrm>
            <a:off x="6877080" y="249228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4444"/>
          <p:cNvPicPr/>
          <p:nvPr/>
        </p:nvPicPr>
        <p:blipFill>
          <a:blip r:embed="rId4"/>
          <a:stretch/>
        </p:blipFill>
        <p:spPr>
          <a:xfrm>
            <a:off x="6948360" y="342900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5555"/>
          <p:cNvPicPr/>
          <p:nvPr/>
        </p:nvPicPr>
        <p:blipFill>
          <a:blip r:embed="rId5"/>
          <a:stretch/>
        </p:blipFill>
        <p:spPr>
          <a:xfrm>
            <a:off x="7093080" y="4365720"/>
            <a:ext cx="763560" cy="7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Box 1"/>
          <p:cNvSpPr/>
          <p:nvPr/>
        </p:nvSpPr>
        <p:spPr>
          <a:xfrm>
            <a:off x="214200" y="1143000"/>
            <a:ext cx="8786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еми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орфология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одно и то же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рень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– это главная значимая  часть слова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конч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вляется изменяемой частью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785880" y="1143000"/>
            <a:ext cx="7643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ффикс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и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иставка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ужат для образования форм одного  и того же слов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ерно ли, что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нова-     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это часть слова без окончания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785880" y="1143000"/>
            <a:ext cx="76438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существуют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корни,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остоящие из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ной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буквы</a:t>
            </a: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785880" y="1143000"/>
            <a:ext cx="7643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Верно ли, что у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юбого</a:t>
            </a:r>
            <a:r>
              <a:rPr b="1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 </a:t>
            </a:r>
            <a:r>
              <a:rPr b="0" lang="ru-RU" sz="4800" spc="-1" strike="noStrike">
                <a:solidFill>
                  <a:srgbClr val="da1f28"/>
                </a:solidFill>
                <a:latin typeface="Times New Roman"/>
                <a:ea typeface="Times New Roman"/>
              </a:rPr>
              <a:t>слова есть</a:t>
            </a:r>
            <a:r>
              <a:rPr b="0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окончание</a:t>
            </a:r>
            <a:r>
              <a:rPr b="0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"/>
          <p:cNvSpPr/>
          <p:nvPr/>
        </p:nvSpPr>
        <p:spPr>
          <a:xfrm>
            <a:off x="8001000" y="571680"/>
            <a:ext cx="5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3-03-11T17:37:51Z</dcterms:modified>
  <cp:revision>44</cp:revision>
  <dc:subject/>
  <dc:title>Слайд 1</dc:title>
</cp:coreProperties>
</file>